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185-6A69-4DC6-9F0E-9DF1C6A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D13-F8B7-4F41-B318-EB68C83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74A-C0B3-402E-BAE1-637706EA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320-4898-4805-ABB5-52D2E560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275-55D0-4FA7-9782-F7D312B8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E01E-7DE2-4144-B565-4D658FE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19C2-F7BA-4F19-B8B2-A74C6A6F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8673-FF30-47E6-B32C-4BB4690B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DBC1-84F6-4786-A70F-20D92D3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A32-3A47-494F-A9CC-909EC65B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5AA-F72F-42CE-BA95-5D90535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A9E-8019-43DC-A009-DB416449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B62-522B-40B8-8209-E295482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0352-D809-4671-AEA6-8D19538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69FF-9E31-4841-9361-E38ED5E8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5DD2-5102-4598-930A-D905E27C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7E17-3E59-43E4-BA9A-0B196878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029-25F0-47C1-920B-6B206999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252-BB6C-4667-8381-13B7093C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0A2-D970-4FD0-8BDA-317F8ED7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454-6DED-4374-AAED-4AA59FD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E6E-5061-4057-9DB9-4ACA991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72E-6663-4C22-A08E-901DE30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FAF-D6BB-4DAC-9757-47DBFFF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937E-9FFE-44AC-95A7-07B8558F32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F0E-03ED-48A7-9BBB-75F74A0D6E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DFF-16C6-4B68-8593-7AFB28B6635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C41-680D-4986-B848-6CB3374E326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E48-3772-4828-A382-7D4A47E429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: 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6F3-6F2E-4072-AB55-8FD34FC45B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886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solution: Reduce # cells on a bit-line                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is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Data-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3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276720" cy="21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4C0-E4A1-46D8-8C1A-28AC1794AD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05D-F112-435B-91C7-B055C5AF93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49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305-BC6B-4480-A836-0398353359C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C53-8FE7-4C3D-B521-354237A4D2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11A-EA53-400A-9699-93933057B4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4-22T04:41:28Z</dcterms:modified>
  <cp:revision>46</cp:revision>
  <dc:subject/>
  <dc:title>Bit-Line Leakage Cancellation:  Design and Test Automation</dc:title>
</cp:coreProperties>
</file>